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png" ContentType="image/png"/>
  <Override PartName="/ppt/media/image22.png" ContentType="image/png"/>
  <Override PartName="/ppt/media/image9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31.png" ContentType="image/png"/>
  <Override PartName="/ppt/media/image14.wmf" ContentType="image/x-wmf"/>
  <Override PartName="/ppt/media/image7.png" ContentType="image/png"/>
  <Override PartName="/ppt/media/image32.png" ContentType="image/png"/>
  <Override PartName="/ppt/media/image10.wmf" ContentType="image/x-wmf"/>
  <Override PartName="/ppt/media/image25.png" ContentType="image/png"/>
  <Override PartName="/ppt/media/image13.png" ContentType="image/png"/>
  <Override PartName="/ppt/media/image33.wmf" ContentType="image/x-wmf"/>
  <Override PartName="/ppt/media/image30.png" ContentType="image/png"/>
  <Override PartName="/ppt/media/image5.png" ContentType="image/png"/>
  <Override PartName="/ppt/media/image8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.wmf" ContentType="image/x-wmf"/>
  <Override PartName="/ppt/media/image24.wmf" ContentType="image/x-wmf"/>
  <Override PartName="/ppt/media/image16.wmf" ContentType="image/x-wmf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dt" idx="3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ftr" idx="3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 type="sldNum" idx="3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A39848-80A3-4BB1-B88A-DF9D271C5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2CF36F-1584-4A9D-A999-01AD07956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D7FC0F-EB3F-4598-942A-8D5EF1806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5BF77-9DCD-46D5-8476-BA7AADCE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EF3C0-BC74-4C04-8E4A-DF60650A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123C1-8EED-4AC8-916E-F7D339BB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71F98-95D4-41FB-B92B-2F076BA4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4F734-353D-4782-B4FD-B3059C9D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D85AC-FA17-44BE-AB01-7AD5CEE7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5EDD9-049D-485B-80C5-53E8032A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07BCA-21EC-4685-A95B-C19491F4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1C753-976E-4B53-BCFF-5B36FA18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A3CFC-A9DD-46B2-9135-6BB65B75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C2871-E5E6-41FA-9D21-D00C296E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3F3BC-6921-4FBC-9D2C-B6CFEAE9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6B962-007D-440C-9B36-0C8ADE48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2F5F1-13CD-46CE-9632-BBD5B38A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C5708-79D3-4984-829F-7FD09390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B6BA1-8807-4A8D-8785-F863981D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8C467-96CF-4CAD-B90D-B448583F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D7D8B-C6AC-4810-90AD-19525A71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5DA3E-CE9B-48E8-ABDF-4374C62F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65315-72A5-4A45-83AF-197262B4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3D1D4-83D1-4E7A-9E35-92805BB3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39D8F-9189-42B0-B8A9-3C44490C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19072-0A6C-44DE-A178-027EA9F4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0B9C1-FC1F-428E-BF46-7255FFFB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681A0-1D59-46A0-8F53-DEDD95D1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A2A74-1B85-4544-A9CC-F4488A95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C7280-AE21-401A-8C9E-E3161390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3E28D-F63B-40CA-91F5-0CCFF28E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1EC65-0952-47DB-9B46-2B07A8E4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38C98-4291-4B9E-A23E-4A49BEB4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E6DCC-60A4-4FC2-BA3E-0F83C0C5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A2434-892E-43B2-B43F-30721B40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4AF9D-8611-4661-A20B-406EB21E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41571-5054-42B6-B9E0-94792141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DCA13-ACAB-41E4-A380-4232A2F9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B0698-8BBE-45D4-8559-898B1A50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2EB9D-E95F-4AD2-BDC4-6AA50220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E95F3-2525-4900-AF7C-C7A0D491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C9AA7-26D4-4888-A827-B847D97C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03B0A-01A1-4FA3-8631-4D8B848A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6C6E1-23A8-4840-B8F0-BFCBAAB5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2D1FE-3763-4CC7-8DBA-FC542F23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47F17-3A77-4C19-9149-844E9EF1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BE466-02B1-492B-AA17-9738A8B4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5EDCE-DEE9-4FEA-8D90-E6B5B74B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D78-31FD-401E-AFE3-8B8E5FD2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798-4CB1-46DF-BBF1-DC28DB67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4DE-5987-4C44-A3AA-31A6A60E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DD4-1D62-41D1-AF80-7526B6F9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825-5DB2-4462-9136-C6CB42B7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9E4-5EC6-4BF6-93CA-4DE55900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6C3-A5F0-4E88-A7DA-70945B65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C21-C8A1-4D36-9D18-FB2F8541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003-1A56-42C1-9D59-3C9249D8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A0C-E66C-4556-AD8C-3A394FF0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921-DA58-4F26-BDFA-51FF2F9E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1F4-3A73-4E3F-8D65-B8FC7837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6321-7340-4CED-BCF5-AB43E5D0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57D2-135F-4891-BE8C-25F23087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38C-7EA2-4744-9C71-4832812C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9DE3-2B61-4EE9-9821-F802041E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E877-0EAC-4AF5-BC23-EC030818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4318-2246-4DED-912E-A59D14B7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2CC3-5C19-431A-A172-77F6B9AA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35EC-278F-478F-9756-8E2F0C35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1379-05BB-4990-AC98-CD0E1D2B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7AA5-B2AD-4E92-9660-43739B39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1D1B-6E07-419E-9E3C-A49A8051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BE78-2FFE-40E0-97D9-07770E0D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8C24D-ADF4-4F38-9B1C-0C7BC393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6FD01-EC1C-4A79-B723-12D93D75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5E87-7E61-46C7-AF9C-8075C3E8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CF41-37D7-491D-9CF2-DDB8E78F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DF5D-9966-470E-B47A-36A45E1E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5E99-F9DD-4797-8B16-7D9A5BEC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77409-1D47-4CEA-9008-12F96676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E47F-B209-4D01-A743-041BE3E0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8488E-F900-46CD-A581-E1566F7A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C6F76-20F3-49F5-89B2-FD58B0E9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1B43-4C6F-4563-A894-181B0B64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55A3-953D-45A3-9127-A92849D9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998DC-FB54-46CF-A76F-C73B4364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60F39-1B56-4F95-901E-A192C0AC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66CCD-FA25-43E4-B2F2-9621574C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C3613-6C88-4C4E-A29D-7307D5FD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6070D-654A-4CC5-A88F-BA7F9B65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27B6F-B1D4-4F70-988E-AB0BAA87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2649-67DB-4394-85AD-40F5B398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732A-2043-4253-AFB5-FB72C8E0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1CD7B-5281-4DB8-9E38-F50E9412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6DADF-D7CC-42A8-B61C-EDB8A530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F3703-A098-4C09-AEA0-0A95DA86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33C37-E3CF-4263-9C48-7DF3F577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A770D-A715-4815-BEB5-6B95634E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837C6-61C6-406D-897F-53029E51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40305-5CC0-473E-81B7-3E8174A4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19FCE-F291-42F4-B011-2F1B6846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F62BB-D574-4E4A-A23F-D2AF836D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35A46-CB2E-4990-8417-0BBFC9A5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8D6CE-85B3-4FCF-B78A-0EDF30CA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699B0-94F2-46E9-854B-15B8E447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96A6A-B919-41AA-ABEB-F6EC3B18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F9128-6EBF-433B-B3DF-E047E6C5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C44E2-4AED-464B-A2B9-C3369D24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F1442-C182-478F-B040-7246E641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B73E3-EDAB-4788-A710-A9EA317D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28EE-A80C-4121-AEEA-8C78B7B7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26BE9-E687-45D1-AD25-1CC0B41C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F4D91-518D-4435-B647-7D72CF9F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655BF-3994-46E0-947D-3689719F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C3BEA-FB37-46B7-B14B-52F983CC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5E358-AB23-4446-97F2-F2588B58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DA8EB-24C2-4C56-A36B-961DA30A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F9325-6B6F-4FC8-A9D6-E83C8F83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1F1FE-B88A-4864-8B44-8ECBEF53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A9960-E32B-4D87-9040-CDB27A16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67477-CE71-466F-9415-86618E94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2A574-5A15-4699-9937-080CBC53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92DF6-1DD0-4546-8064-49FBF87D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0BC0F-D686-4245-AF19-6B63C5AF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CA7E55CD-B991-428B-9FE9-C264C34AC8F4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06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607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A5E4E234-89E8-4D33-8BB2-080DD716DD24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CC36-18A5-4B09-B623-34391BF76C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74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675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3AF38FC5-A523-49E6-96C6-3B85BF71DA4D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6437-395D-4CDF-A07F-7300A329E8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742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743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75239959-99C0-45CA-A8FB-E5D1132E6271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F5DF-0ACA-4B8A-87AC-C959B012F8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2720"/>
            <a:chOff x="-3600" y="2438280"/>
            <a:chExt cx="9147240" cy="106272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8960"/>
              <a:ext cx="9146880" cy="1022040"/>
              <a:chOff x="-3240" y="2478960"/>
              <a:chExt cx="9146880" cy="102204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095720" y="-1582920"/>
                <a:ext cx="977040" cy="91188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57720" y="264240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596640" y="26416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48320" y="2797560"/>
                <a:ext cx="976680" cy="4042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101000" y="274320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53440" y="2689200"/>
                <a:ext cx="977040" cy="574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899120" y="2756160"/>
                <a:ext cx="989640" cy="4996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081960" y="2635560"/>
                <a:ext cx="976680" cy="6681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600360" y="263376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54920" y="2789640"/>
                <a:ext cx="976680" cy="4046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105800" y="273528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61120" y="268344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899960" y="2723760"/>
                <a:ext cx="989640" cy="50112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707120" y="264240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25520" y="26416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904320" y="2780640"/>
                <a:ext cx="977040" cy="40464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8960"/>
                <a:ext cx="461520" cy="97848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78480"/>
                  <a:gd name="textAreaBottom" fmla="*/ 978480 h 97848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110520" y="268344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28120" y="2723760"/>
                <a:ext cx="989640" cy="5014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5800" cy="645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191400"/>
              <a:ext cx="9144360" cy="29592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295920"/>
                <a:gd name="textAreaBottom" fmla="*/ 296280 h 29592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R:\Templates &amp; Logos\Logos\FEFE Logos from Debra Bowles\FEFE Logo Clear Background.png"/>
          <p:cNvPicPr/>
          <p:nvPr/>
        </p:nvPicPr>
        <p:blipFill>
          <a:blip r:embed="rId2"/>
          <a:stretch/>
        </p:blipFill>
        <p:spPr>
          <a:xfrm>
            <a:off x="685800" y="6019920"/>
            <a:ext cx="1066680" cy="59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R:\TCAI\Templates &amp; Logos\Logos\TCAI ICON_final.png"/>
          <p:cNvPicPr/>
          <p:nvPr/>
        </p:nvPicPr>
        <p:blipFill>
          <a:blip r:embed="rId3"/>
          <a:stretch/>
        </p:blipFill>
        <p:spPr>
          <a:xfrm>
            <a:off x="6934320" y="624852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30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131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2AD85318-FBEC-4B01-9BE6-027A321A6FC9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A3DC-8175-45BB-A388-7D4C8301BC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98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199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1E5721AF-48E4-4573-808B-4215F53B22B8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5D62-942E-4296-B71B-3141E7FAB5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66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67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14AFB876-16C4-48DA-BDCA-DA6BC10A2AB6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F73F-0977-42E8-85D0-DBD8202FBA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34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335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7D48B343-A163-4716-97F7-7D507BAA4A3B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B18D-7205-451D-BB9B-F88B5207E5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02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403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F82D4BD4-464B-46EB-B0DD-16C21F0C47E6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A794-7D82-4B3D-8FBE-953A7AAC6F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70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471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C1F3A820-437B-43EA-BDA0-9C56E87A511C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3A18-2245-46CE-9850-B9ADF38E27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38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539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7CFCA83E-A7FE-4066-8483-849D0966F9F0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2C68-8611-46C5-8ED2-F739B5D815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ursuit of New Credi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ssesses how many accounts have been opened recently and the type of accoun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1680" indent="-3016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cludes the number of recently opened accounts as well as requests for new credi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1680" indent="-3016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Opening too many types of accounts in a short period of time has a negative affec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18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56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177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2" descr="C:\Documents and Settings\Nicole Chinadle\Local Settings\Temporary Internet Files\Content.IE5\PORBKT84\MCBD05104_0000[1].wmf"/>
          <p:cNvPicPr/>
          <p:nvPr/>
        </p:nvPicPr>
        <p:blipFill>
          <a:blip r:embed="rId2"/>
          <a:stretch/>
        </p:blipFill>
        <p:spPr>
          <a:xfrm>
            <a:off x="4191120" y="4114800"/>
            <a:ext cx="1833480" cy="2147760"/>
          </a:xfrm>
          <a:prstGeom prst="rect">
            <a:avLst/>
          </a:prstGeom>
          <a:ln w="0">
            <a:noFill/>
          </a:ln>
        </p:spPr>
      </p:pic>
      <p:sp>
        <p:nvSpPr>
          <p:cNvPr id="858" name="TextBox 4"/>
          <p:cNvSpPr/>
          <p:nvPr/>
        </p:nvSpPr>
        <p:spPr>
          <a:xfrm>
            <a:off x="5943600" y="2438280"/>
            <a:ext cx="228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ernando is responsible for the movie re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uld be reported to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60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177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2" descr="C:\Documents and Settings\Nicole Chinadle\Local Settings\Temporary Internet Files\Content.IE5\ZS9IMRSD\MCj01988770000[1].wmf"/>
          <p:cNvPicPr/>
          <p:nvPr/>
        </p:nvPicPr>
        <p:blipFill>
          <a:blip r:embed="rId2"/>
          <a:stretch/>
        </p:blipFill>
        <p:spPr>
          <a:xfrm>
            <a:off x="4114800" y="4343400"/>
            <a:ext cx="1832040" cy="1868400"/>
          </a:xfrm>
          <a:prstGeom prst="rect">
            <a:avLst/>
          </a:prstGeom>
          <a:ln w="0">
            <a:noFill/>
          </a:ln>
        </p:spPr>
      </p:pic>
      <p:sp>
        <p:nvSpPr>
          <p:cNvPr id="862" name="TextBox 4"/>
          <p:cNvSpPr/>
          <p:nvPr/>
        </p:nvSpPr>
        <p:spPr>
          <a:xfrm>
            <a:off x="6019920" y="2514600"/>
            <a:ext cx="228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Cassie has probably already been referred to colle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Will owe for the parking tickets and additional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64" name="Content Placeholder 7" descr=""/>
          <p:cNvPicPr/>
          <p:nvPr/>
        </p:nvPicPr>
        <p:blipFill>
          <a:blip r:embed="rId1"/>
          <a:stretch/>
        </p:blipFill>
        <p:spPr>
          <a:xfrm>
            <a:off x="1279440" y="174960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3" descr="C:\Documents and Settings\Nicole Chinadle\Local Settings\Temporary Internet Files\Content.IE5\D5WHXGLG\MPj04013120000[1].jpg"/>
          <p:cNvPicPr/>
          <p:nvPr/>
        </p:nvPicPr>
        <p:blipFill>
          <a:blip r:embed="rId2"/>
          <a:stretch/>
        </p:blipFill>
        <p:spPr>
          <a:xfrm>
            <a:off x="4267080" y="4724280"/>
            <a:ext cx="2027520" cy="1351080"/>
          </a:xfrm>
          <a:prstGeom prst="rect">
            <a:avLst/>
          </a:prstGeom>
          <a:ln w="0">
            <a:noFill/>
          </a:ln>
        </p:spPr>
      </p:pic>
      <p:sp>
        <p:nvSpPr>
          <p:cNvPr id="866" name="TextBox 4"/>
          <p:cNvSpPr/>
          <p:nvPr/>
        </p:nvSpPr>
        <p:spPr>
          <a:xfrm>
            <a:off x="6019920" y="2590920"/>
            <a:ext cx="220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Demonstrated the ability to responsibly use cred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68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2" descr="C:\Documents and Settings\Nicole Chinadle\Local Settings\Temporary Internet Files\Content.IE5\7SQD0UCH\MPj04223480000[1].jpg"/>
          <p:cNvPicPr/>
          <p:nvPr/>
        </p:nvPicPr>
        <p:blipFill>
          <a:blip r:embed="rId2"/>
          <a:stretch/>
        </p:blipFill>
        <p:spPr>
          <a:xfrm>
            <a:off x="4419720" y="4114800"/>
            <a:ext cx="1320840" cy="1981080"/>
          </a:xfrm>
          <a:prstGeom prst="rect">
            <a:avLst/>
          </a:prstGeom>
          <a:ln w="0">
            <a:noFill/>
          </a:ln>
        </p:spPr>
      </p:pic>
      <p:sp>
        <p:nvSpPr>
          <p:cNvPr id="870" name="TextBox 4"/>
          <p:cNvSpPr/>
          <p:nvPr/>
        </p:nvSpPr>
        <p:spPr>
          <a:xfrm>
            <a:off x="5943600" y="289548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lthough Corey is paying his bill, he is doing so l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72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969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" descr="C:\Documents and Settings\Nicole Chinadle\Local Settings\Temporary Internet Files\Content.IE5\ZCAAAMQ4\MCj04397950000[1].png"/>
          <p:cNvPicPr/>
          <p:nvPr/>
        </p:nvPicPr>
        <p:blipFill>
          <a:blip r:embed="rId2"/>
          <a:stretch/>
        </p:blipFill>
        <p:spPr>
          <a:xfrm>
            <a:off x="4038480" y="4724280"/>
            <a:ext cx="2400480" cy="1567080"/>
          </a:xfrm>
          <a:prstGeom prst="rect">
            <a:avLst/>
          </a:prstGeom>
          <a:ln w="0">
            <a:noFill/>
          </a:ln>
        </p:spPr>
      </p:pic>
      <p:sp>
        <p:nvSpPr>
          <p:cNvPr id="874" name="TextBox 4"/>
          <p:cNvSpPr/>
          <p:nvPr/>
        </p:nvSpPr>
        <p:spPr>
          <a:xfrm>
            <a:off x="6019920" y="2438280"/>
            <a:ext cx="2286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Posi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All payments were made in ti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Having automatic withdrawals with the money in the account is a good pract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76" name="Content Placeholder 7" descr=""/>
          <p:cNvPicPr/>
          <p:nvPr/>
        </p:nvPicPr>
        <p:blipFill>
          <a:blip r:embed="rId1"/>
          <a:stretch/>
        </p:blipFill>
        <p:spPr>
          <a:xfrm>
            <a:off x="1279440" y="174960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" descr="C:\Documents and Settings\Nicole Chinadle\Local Settings\Temporary Internet Files\Content.IE5\D5WHXGLG\MCj02377130000[1].wmf"/>
          <p:cNvPicPr/>
          <p:nvPr/>
        </p:nvPicPr>
        <p:blipFill>
          <a:blip r:embed="rId2"/>
          <a:stretch/>
        </p:blipFill>
        <p:spPr>
          <a:xfrm>
            <a:off x="4191120" y="4343400"/>
            <a:ext cx="1866960" cy="2001960"/>
          </a:xfrm>
          <a:prstGeom prst="rect">
            <a:avLst/>
          </a:prstGeom>
          <a:ln w="0">
            <a:noFill/>
          </a:ln>
        </p:spPr>
      </p:pic>
      <p:sp>
        <p:nvSpPr>
          <p:cNvPr id="878" name="TextBox 4"/>
          <p:cNvSpPr/>
          <p:nvPr/>
        </p:nvSpPr>
        <p:spPr>
          <a:xfrm>
            <a:off x="5867280" y="2763720"/>
            <a:ext cx="236232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This is too many inquiries for new credit at one time from a variety of types of sto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80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177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5" descr="C:\Documents and Settings\Nicole Chinadle\Local Settings\Temporary Internet Files\Content.IE5\P8XK4NBP\MCj04398290000[1].png"/>
          <p:cNvPicPr/>
          <p:nvPr/>
        </p:nvPicPr>
        <p:blipFill>
          <a:blip r:embed="rId2"/>
          <a:stretch/>
        </p:blipFill>
        <p:spPr>
          <a:xfrm>
            <a:off x="3581280" y="388620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882" name="TextBox 4"/>
          <p:cNvSpPr/>
          <p:nvPr/>
        </p:nvSpPr>
        <p:spPr>
          <a:xfrm>
            <a:off x="5867280" y="2743200"/>
            <a:ext cx="2438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A variety of types of credit may be good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however, Jessica’s balances are at the maximum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84" name="Content Placeholder 7" descr=""/>
          <p:cNvPicPr/>
          <p:nvPr/>
        </p:nvPicPr>
        <p:blipFill>
          <a:blip r:embed="rId1"/>
          <a:stretch/>
        </p:blipFill>
        <p:spPr>
          <a:xfrm>
            <a:off x="1279440" y="174960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3" descr="C:\Documents and Settings\Nicole Chinadle\Local Settings\Temporary Internet Files\Content.IE5\R18KOF21\MPj04394970000[1].jpg"/>
          <p:cNvPicPr/>
          <p:nvPr/>
        </p:nvPicPr>
        <p:blipFill>
          <a:blip r:embed="rId2"/>
          <a:stretch/>
        </p:blipFill>
        <p:spPr>
          <a:xfrm>
            <a:off x="4038480" y="4952880"/>
            <a:ext cx="1905120" cy="1271880"/>
          </a:xfrm>
          <a:prstGeom prst="rect">
            <a:avLst/>
          </a:prstGeom>
          <a:ln w="0">
            <a:noFill/>
          </a:ln>
        </p:spPr>
      </p:pic>
      <p:sp>
        <p:nvSpPr>
          <p:cNvPr id="886" name="Rectangle 5"/>
          <p:cNvSpPr/>
          <p:nvPr/>
        </p:nvSpPr>
        <p:spPr>
          <a:xfrm>
            <a:off x="5943600" y="2666880"/>
            <a:ext cx="228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Jon is delinquent on the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f he contacts the loan company, they may be able to work with h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ositive Credit Practic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1295280" y="1905120"/>
          <a:ext cx="7315200" cy="39780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Posi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actice good banking techniques, such as keeping a checkbook balanced, managing accounts online, and not bouncing any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ay bills consistently and on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Maintain reasonable amounts of unused cred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Apply for credit sparingly, thus keeping credit inquiries to a minim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heck credit reports annually and search for err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Negative Credit Practic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1295280" y="1981080"/>
          <a:ext cx="7315200" cy="28656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Nega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aving non-sufficient funds (NSF) when writing checks, also known as bouncing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Routinely paying late on credit cards, utility, and cell-phone b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Maxing out limits on credit c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Numerous credit applications in a short period of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New Credi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5168520" y="1676520"/>
            <a:ext cx="3809880" cy="411480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ditional credi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hop ‘Til You Drop in August 2008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mpact of seeking additional credi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redit score will go dow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1" name="TextBox 4"/>
          <p:cNvSpPr/>
          <p:nvPr/>
        </p:nvSpPr>
        <p:spPr>
          <a:xfrm>
            <a:off x="1066680" y="1676520"/>
            <a:ext cx="3733920" cy="155700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AS IS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PURSUED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DDITIONAL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SINCE JANUARY 200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787920" y="1828800"/>
            <a:ext cx="936360" cy="762120"/>
          </a:xfrm>
          <a:prstGeom prst="rect">
            <a:avLst/>
          </a:prstGeom>
          <a:ln w="0">
            <a:noFill/>
          </a:ln>
        </p:spPr>
      </p:pic>
      <p:sp>
        <p:nvSpPr>
          <p:cNvPr id="823" name="TextBox 6"/>
          <p:cNvSpPr/>
          <p:nvPr/>
        </p:nvSpPr>
        <p:spPr>
          <a:xfrm>
            <a:off x="1066680" y="3505320"/>
            <a:ext cx="3733920" cy="30200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F ISABELLA AC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NOTHER CRED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ARD AND SHOPP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N AUTOMOBILE LOAN, WHAT WOULD HAPPEN TO HER S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787920" y="3657600"/>
            <a:ext cx="936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When Credit is not established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20636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lthough the following are all positive financial habits, no credit is established when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is never use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ccounts are not in own nam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ash is paid for all major purchas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hone and utility bills are paid on tim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t only negatively impacts a score if payments are lat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Building credi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208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mportant for consumers to build a credit history to be able to purchase items on credi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or example – house, vehicl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aving no credit history may be just as challenging to a consumer as having a negative histor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95" name="Picture 4" descr="1s11o3bb[1]"/>
          <p:cNvPicPr/>
          <p:nvPr/>
        </p:nvPicPr>
        <p:blipFill>
          <a:blip r:embed="rId1"/>
          <a:stretch/>
        </p:blipFill>
        <p:spPr>
          <a:xfrm>
            <a:off x="6629400" y="4495680"/>
            <a:ext cx="183204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2009 CARD 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980720" y="1599840"/>
            <a:ext cx="6032520" cy="1143000"/>
          </a:xfrm>
          <a:prstGeom prst="rect">
            <a:avLst/>
          </a:prstGeom>
          <a:noFill/>
          <a:ln w="19080">
            <a:solidFill>
              <a:srgbClr val="0099cc"/>
            </a:solidFill>
            <a:miter/>
          </a:ln>
        </p:spPr>
        <p:txBody>
          <a:bodyPr anchor="t">
            <a:normAutofit fontScale="95000"/>
          </a:bodyPr>
          <a:p>
            <a:pPr marL="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hanged how young adults receive certain types of credi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114300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 receive a credit ca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  <a:ea typeface="Arial"/>
              </a:rPr>
              <a:t>Generally must be 21 years of age or o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aur"/>
                <a:ea typeface="Arial"/>
              </a:rPr>
              <a:t>UN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  <a:ea typeface="Arial"/>
              </a:rPr>
              <a:t>Show documentation of sufficien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  <a:ea typeface="Arial"/>
              </a:rPr>
              <a:t>Have a co-sig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Establishing Credi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1206000" y="1676520"/>
            <a:ext cx="473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Strategies to build credit include acquiring and positively managing small lines of credi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-sign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ecured Credit car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Require a cash security deposit to ensure payment of the card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mall loan from financial institu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1" name="TextBox 3"/>
          <p:cNvSpPr/>
          <p:nvPr/>
        </p:nvSpPr>
        <p:spPr>
          <a:xfrm>
            <a:off x="6858000" y="1752480"/>
            <a:ext cx="1981080" cy="411732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f someone is a co-signer on a an account, they are equally as responsible and their credit report is impa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Box 4"/>
          <p:cNvSpPr/>
          <p:nvPr/>
        </p:nvSpPr>
        <p:spPr>
          <a:xfrm>
            <a:off x="1295280" y="5418000"/>
            <a:ext cx="76201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DOES ISABELLA HAVE ANY CO-SIGN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MPACT DOES HER ACTIONS HAVE ON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3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7848720" y="5410080"/>
            <a:ext cx="936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Requesting A Credit Repor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1066320" y="17524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One free credit report annually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aur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of the three credit reporting agenc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scores are available for a small fe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6" name="TextBox 7"/>
          <p:cNvSpPr/>
          <p:nvPr/>
        </p:nvSpPr>
        <p:spPr>
          <a:xfrm>
            <a:off x="1066680" y="3271680"/>
            <a:ext cx="7848720" cy="45972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ccess the website: annualcreditreport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Box 8"/>
          <p:cNvSpPr/>
          <p:nvPr/>
        </p:nvSpPr>
        <p:spPr>
          <a:xfrm>
            <a:off x="1066680" y="3957480"/>
            <a:ext cx="7848720" cy="45972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Calling toll free: 1-877-322-82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Box 9"/>
          <p:cNvSpPr/>
          <p:nvPr/>
        </p:nvSpPr>
        <p:spPr>
          <a:xfrm>
            <a:off x="1066680" y="4602240"/>
            <a:ext cx="7848720" cy="15570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Send a written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nnual Credit Report Reques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PO box 1052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tlanta, GA 30348-52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nnualcreditreport.com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10" name="Picture 2" descr=""/>
          <p:cNvPicPr/>
          <p:nvPr/>
        </p:nvPicPr>
        <p:blipFill>
          <a:blip r:embed="rId1"/>
          <a:srcRect l="0" t="28125" r="22655" b="4690"/>
          <a:stretch/>
        </p:blipFill>
        <p:spPr>
          <a:xfrm>
            <a:off x="2666880" y="2819520"/>
            <a:ext cx="4748400" cy="3429000"/>
          </a:xfrm>
          <a:prstGeom prst="rect">
            <a:avLst/>
          </a:prstGeom>
          <a:ln w="9360">
            <a:solidFill>
              <a:srgbClr val="003e7e"/>
            </a:solidFill>
            <a:miter/>
          </a:ln>
        </p:spPr>
      </p:pic>
      <p:sp>
        <p:nvSpPr>
          <p:cNvPr id="911" name="TextBox 5"/>
          <p:cNvSpPr/>
          <p:nvPr/>
        </p:nvSpPr>
        <p:spPr>
          <a:xfrm>
            <a:off x="1066680" y="1760400"/>
            <a:ext cx="7848720" cy="11912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nnualcreditreport.com 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aur"/>
              </a:rPr>
              <a:t>Only</a:t>
            </a: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 government sponsored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Other sites may be fraudulent or charge a 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Mistakes in Credit Report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mportant to check each credit report annually to correct mistake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wo common erro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aud (identity theft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istaken identit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When a lender reports a transaction on the wrong person’s credit repor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Fair Credit Reporting 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Gives consumers the right to review and correct their repor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f a person is denied credit, they have the right to request their credit report from the credit reporting agenc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within 60 days it is free of charg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orrecting Errors on Credit Report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17" name="Content Placeholder 5" descr=""/>
          <p:cNvPicPr/>
          <p:nvPr/>
        </p:nvPicPr>
        <p:blipFill>
          <a:blip r:embed="rId1"/>
          <a:stretch/>
        </p:blipFill>
        <p:spPr>
          <a:xfrm>
            <a:off x="1116000" y="1901880"/>
            <a:ext cx="78818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orrecting Errors on Credit Report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19" name="Content Placeholder 5" descr=""/>
          <p:cNvPicPr/>
          <p:nvPr/>
        </p:nvPicPr>
        <p:blipFill>
          <a:blip r:embed="rId1"/>
          <a:stretch/>
        </p:blipFill>
        <p:spPr>
          <a:xfrm>
            <a:off x="1116000" y="1901880"/>
            <a:ext cx="78818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Types of Credit in Us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nalyzes the types of credit in us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cards, retail cards, mortgages, automobile loans, etc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Variety is generally good to hav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27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pperplate Gothic Light"/>
              </a:rPr>
              <a:t>Credit Repair Agencies</a:t>
            </a:r>
            <a:endParaRPr b="0" lang="en-US" sz="4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84240" y="1676160"/>
            <a:ext cx="770256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aur"/>
              </a:rPr>
              <a:t>Offer to help a consumer “fix” his/her negative credit report</a:t>
            </a:r>
            <a:endParaRPr b="0" lang="en-US" sz="27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spcBef>
                <a:spcPts val="6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aur"/>
              </a:rPr>
              <a:t>According to the Better Business Bureau (BBB) and the Federal Trade Commission (FTC):</a:t>
            </a:r>
            <a:endParaRPr b="0" lang="en-US" sz="27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nsumers can do just as good of a job repairing their credit report errors as a fee based debt repair agency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Be cautious of debt repair agencies promising instant help because there is no immediate fix for negative credi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22" name="Picture 2" descr="C:\Documents and Settings\Nicole Chinadle\Local Settings\Temporary Internet Files\Content.IE5\WZY63ZWM\MCBS01776_0000[1].wmf"/>
          <p:cNvPicPr/>
          <p:nvPr/>
        </p:nvPicPr>
        <p:blipFill>
          <a:blip r:embed="rId1"/>
          <a:stretch/>
        </p:blipFill>
        <p:spPr>
          <a:xfrm>
            <a:off x="7238880" y="4800600"/>
            <a:ext cx="16988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dvice Isabella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was given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From Angi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914040" y="2174760"/>
            <a:ext cx="3886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redit ratings improve as people get older and income increas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sabella’s credit score will improve when she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oves to a better side of tow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Gets a better interest rate on loan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Is promoted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101920" y="1534680"/>
            <a:ext cx="3584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From Geor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5102280" y="2174760"/>
            <a:ext cx="3889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hopping around too much for credit is not good because it increases inquiri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Opening new accounts, even if not used, provides evidence of credit worthines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lose old accounts, including those with loans not paid on time to wipe the slate clea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8" name="TextBox 9"/>
          <p:cNvSpPr/>
          <p:nvPr/>
        </p:nvSpPr>
        <p:spPr>
          <a:xfrm>
            <a:off x="1143000" y="5867280"/>
            <a:ext cx="7620120" cy="4597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AS THE ADVICE GOOD?  WHY OR WHY NO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8229600" y="5943600"/>
            <a:ext cx="40320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ill Isabella receive her dream job? 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advice would you give Isabella to improve her credit report and score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at should she do immediately?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at recommendations would you suggest she employ in the near future?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1" name="TextBox 9"/>
          <p:cNvSpPr/>
          <p:nvPr/>
        </p:nvSpPr>
        <p:spPr>
          <a:xfrm>
            <a:off x="1143000" y="228600"/>
            <a:ext cx="7620120" cy="13129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aur"/>
              </a:rPr>
              <a:t>CREDIT REPO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aur"/>
              </a:rPr>
              <a:t>DETECTIVES AD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7162920" y="252360"/>
            <a:ext cx="14698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in Us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5168520" y="1676520"/>
            <a:ext cx="3809880" cy="411480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redit card (revolving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chool loan (installment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rivate school loan (installment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tore cards (revolving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ditional form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ortga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utomobile loa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0" name="TextBox 4"/>
          <p:cNvSpPr/>
          <p:nvPr/>
        </p:nvSpPr>
        <p:spPr>
          <a:xfrm>
            <a:off x="1066680" y="167652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REDIT DO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SABELLA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787920" y="1828800"/>
            <a:ext cx="936360" cy="762120"/>
          </a:xfrm>
          <a:prstGeom prst="rect">
            <a:avLst/>
          </a:prstGeom>
          <a:ln w="0">
            <a:noFill/>
          </a:ln>
        </p:spPr>
      </p:pic>
      <p:sp>
        <p:nvSpPr>
          <p:cNvPr id="832" name="TextBox 6"/>
          <p:cNvSpPr/>
          <p:nvPr/>
        </p:nvSpPr>
        <p:spPr>
          <a:xfrm>
            <a:off x="1066680" y="3200400"/>
            <a:ext cx="3733920" cy="155700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DDITIONAL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OF CREDIT SHE MAY S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787920" y="3352680"/>
            <a:ext cx="936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Information not included in a FICO scor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367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ICO scor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aur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based upon credit us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formation not included i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ersonal information such as age, where you live, marital status, race, color, religion, national origin, gend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Employment informa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terest rates charged on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Overall wealth (assets an individual may have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6" name="TextBox 3"/>
          <p:cNvSpPr/>
          <p:nvPr/>
        </p:nvSpPr>
        <p:spPr>
          <a:xfrm>
            <a:off x="1066680" y="5257800"/>
            <a:ext cx="7848720" cy="11912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These variables may still be considered when a le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reviews a loan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ositive vs. Negative Credit Imp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90360" y="1534680"/>
            <a:ext cx="35067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990360" y="2174760"/>
            <a:ext cx="35067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forms the lender a consumer is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Financially responsibl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Less risk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Benefits to the consum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Lower interest rat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Access to additional credi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178240" y="1534680"/>
            <a:ext cx="3508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5178240" y="2174760"/>
            <a:ext cx="3508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forms the lender a consumer is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Not financially responsibl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ay be a higher risk 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mpact on the consum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ay pay higher interest rat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ay not be able to qualify for credi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ay limit employment opportuniti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2" name="TextBox 10"/>
          <p:cNvSpPr/>
          <p:nvPr/>
        </p:nvSpPr>
        <p:spPr>
          <a:xfrm>
            <a:off x="1143000" y="502920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S ISABELLA A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OR A NEGATIVE RIS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940200" y="5257800"/>
            <a:ext cx="93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 - What You Do Makes a Differenc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99cc"/>
              </a:buClr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structor will read a scenario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514440" indent="-514440">
              <a:spcBef>
                <a:spcPts val="799"/>
              </a:spcBef>
              <a:buClr>
                <a:srgbClr val="0099cc"/>
              </a:buClr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termine if the scenario will have a positive or negative impact on an individual’s credit repor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514440" indent="-514440">
              <a:spcBef>
                <a:spcPts val="799"/>
              </a:spcBef>
              <a:buClr>
                <a:srgbClr val="0099cc"/>
              </a:buClr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ove to the side of the room representing your selected answer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514440" indent="-514440">
              <a:spcBef>
                <a:spcPts val="799"/>
              </a:spcBef>
              <a:buClr>
                <a:srgbClr val="0099cc"/>
              </a:buClr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Be prepared to explain “why”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46" name="Picture 2" descr="C:\Documents and Settings\Nicole Chinadle\Local Settings\Temporary Internet Files\Content.IE5\P8XK4NBP\MPj04392370000[1].jpg"/>
          <p:cNvPicPr/>
          <p:nvPr/>
        </p:nvPicPr>
        <p:blipFill>
          <a:blip r:embed="rId1"/>
          <a:stretch/>
        </p:blipFill>
        <p:spPr>
          <a:xfrm>
            <a:off x="7086600" y="4084560"/>
            <a:ext cx="1546200" cy="2163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48" name="Content Placeholder 7" descr=""/>
          <p:cNvPicPr/>
          <p:nvPr/>
        </p:nvPicPr>
        <p:blipFill>
          <a:blip r:embed="rId1"/>
          <a:stretch/>
        </p:blipFill>
        <p:spPr>
          <a:xfrm>
            <a:off x="1189080" y="167004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" descr="C:\Documents and Settings\Nicole Chinadle\Local Settings\Temporary Internet Files\Content.IE5\D5WHXGLG\MCj04325170000[1].wmf"/>
          <p:cNvPicPr/>
          <p:nvPr/>
        </p:nvPicPr>
        <p:blipFill>
          <a:blip r:embed="rId2"/>
          <a:stretch/>
        </p:blipFill>
        <p:spPr>
          <a:xfrm>
            <a:off x="4038480" y="4664160"/>
            <a:ext cx="1981440" cy="1584360"/>
          </a:xfrm>
          <a:prstGeom prst="rect">
            <a:avLst/>
          </a:prstGeom>
          <a:ln w="0">
            <a:noFill/>
          </a:ln>
        </p:spPr>
      </p:pic>
      <p:sp>
        <p:nvSpPr>
          <p:cNvPr id="850" name="TextBox 4"/>
          <p:cNvSpPr/>
          <p:nvPr/>
        </p:nvSpPr>
        <p:spPr>
          <a:xfrm>
            <a:off x="5943600" y="2514600"/>
            <a:ext cx="2438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Joey owes the store the money which was agreed upon in the contra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May be responsible for additional fe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He may be referred to colle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52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177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" descr="C:\Documents and Settings\Nicole Chinadle\Local Settings\Temporary Internet Files\Content.IE5\7SQD0UCH\MPj04308200000[1].jpg"/>
          <p:cNvPicPr/>
          <p:nvPr/>
        </p:nvPicPr>
        <p:blipFill>
          <a:blip r:embed="rId2"/>
          <a:stretch/>
        </p:blipFill>
        <p:spPr>
          <a:xfrm>
            <a:off x="4114800" y="4800600"/>
            <a:ext cx="1824120" cy="1370160"/>
          </a:xfrm>
          <a:prstGeom prst="rect">
            <a:avLst/>
          </a:prstGeom>
          <a:ln w="0">
            <a:noFill/>
          </a:ln>
        </p:spPr>
      </p:pic>
      <p:sp>
        <p:nvSpPr>
          <p:cNvPr id="854" name="TextBox 6"/>
          <p:cNvSpPr/>
          <p:nvPr/>
        </p:nvSpPr>
        <p:spPr>
          <a:xfrm>
            <a:off x="6019920" y="2971800"/>
            <a:ext cx="213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aur"/>
              </a:rPr>
              <a:t>Posi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aur"/>
              </a:rPr>
              <a:t>An excellent habit for building a positive rep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1:30:39Z</dcterms:created>
  <dc:creator>itcmaint</dc:creator>
  <dc:description/>
  <dc:language>en-US</dc:language>
  <cp:lastModifiedBy>NHBOE</cp:lastModifiedBy>
  <dcterms:modified xsi:type="dcterms:W3CDTF">2012-03-09T19:45:43Z</dcterms:modified>
  <cp:revision>1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11033</vt:lpwstr>
  </property>
</Properties>
</file>